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69DC-A1AD-4B84-AB61-227D9CB2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20C-78AB-44C3-8340-F6B7410D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FEC6-5828-44CB-A8CA-EA138B90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1B2-5FF3-405A-AB47-BA941C19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5FEC-923C-4BBD-85BC-9AF6091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1A6-63DD-49A7-B017-AB9FFE53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CE9-9CA5-4649-AE10-E0D332FF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1D7-72AA-467F-AB8C-23876F5D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82E-6FC6-4E6F-AE3F-E4784B3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D424-0C92-4DAD-B2DA-8D652749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E4C-28F1-468B-A13B-19F8A37B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37E-47F5-4C48-B830-5833ADE7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E7E3-68CF-4F56-BE25-2F467D24A4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English F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19564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ade By ZYB HL L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2030400"/>
            <a:ext cx="6696000" cy="482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Hercules and the Wagon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A waggoner was once driving a heavy load on a very muddy road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775640" cy="56041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Suddenly the wheels of the wagon sank into the mire, and the horse could not pull them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The waggoner threw down his whip. He knelt down and prayed to Hercules. "Hercules, help me,please," he said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But Hercules appeared to him, and said, "Man, don't kneel there. Get up and put your shoulder to the wheel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It‘s said that when we have troubles,we can’t only expect others’ help ,we should get out of the trouble by ourselves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19280" y="2349360"/>
            <a:ext cx="532908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s for watching</a:t>
            </a: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03:59:31Z</dcterms:created>
  <dc:creator>雨林木风</dc:creator>
  <dc:description/>
  <dc:language>en-US</dc:language>
  <cp:lastModifiedBy>雨林木风</cp:lastModifiedBy>
  <dcterms:modified xsi:type="dcterms:W3CDTF">2010-11-28T04:28:37Z</dcterms:modified>
  <cp:revision>4</cp:revision>
  <dc:subject/>
  <dc:title>English Fable</dc:title>
</cp:coreProperties>
</file>